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6A6-DA71-4414-9FFD-F8F6DDAC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845-24C9-4D64-9B72-418C5FF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5C4-A378-474A-B53B-E1D2C4C7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403-4902-4695-A4A0-9273B399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C42-0002-421C-A5FF-092F3947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183-F3C5-43F4-A559-EFD93F27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03D-9DB6-4E37-ACA0-4F37D54F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16B-A3BB-4351-8BEC-5B62AE18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7C7-DAC2-48B2-8B9A-724433B3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800-0420-49A5-9F76-825DA5D0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6F1-4C31-4195-8A04-EBA3B2AC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F4B-F2A1-4CCC-9987-A4AC861D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70DE-B9CB-47EB-B304-C9921E65F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 Clase 7 im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27 de septiembre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7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terminamos la practica para el examen # 1 del l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 las oraciones con la forma correcta del ver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uce no _______ futbo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nombrar los países hispano-hablant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lia y Mercedes __________ ser espectadora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refer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 las clases a las och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mpe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qué hora ____________ uds. en la noche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ormi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ocabulari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nti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953160" cy="464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0" y="1600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6386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004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286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4724280"/>
            <a:ext cx="3808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60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248520" y="304812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123720" y="38098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581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5638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914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42840" y="5715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5486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533520"/>
            <a:ext cx="2895840" cy="131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743200" y="3505320"/>
            <a:ext cx="2724120" cy="215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991120" y="3581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 flipV="1">
            <a:off x="8153280" y="3352680"/>
            <a:ext cx="7632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554040"/>
            <a:ext cx="7010280" cy="5846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91540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-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OGRAFI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cribe el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la capi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ies are missing? What are their capit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752480" y="16002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64832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86400" y="205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791320" y="23619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562720" y="29714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24382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047760" y="2514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886200" y="175212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38480" y="25905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532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520" y="297180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520" y="3124080"/>
            <a:ext cx="3047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657240" y="3505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600" y="3962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38120" y="48769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54100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472428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410080" y="42670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78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204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92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97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217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972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260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244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41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7160" y="5410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6280" y="1752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8880" y="419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2560" y="289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6080" y="1447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581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816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556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0292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7880" y="5410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536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5680" y="641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2760" y="640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343400" y="2514600"/>
          <a:ext cx="4800240" cy="2361960"/>
        </p:xfrm>
        <a:graphic>
          <a:graphicData uri="http://schemas.openxmlformats.org/drawingml/2006/table">
            <a:tbl>
              <a:tblPr/>
              <a:tblGrid>
                <a:gridCol w="610920"/>
                <a:gridCol w="1362600"/>
                <a:gridCol w="1468080"/>
                <a:gridCol w="1358640"/>
              </a:tblGrid>
              <a:tr h="556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 Mover 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to mo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419720" y="76320"/>
          <a:ext cx="4647960" cy="2438280"/>
        </p:xfrm>
        <a:graphic>
          <a:graphicData uri="http://schemas.openxmlformats.org/drawingml/2006/table">
            <a:tbl>
              <a:tblPr/>
              <a:tblGrid>
                <a:gridCol w="591840"/>
                <a:gridCol w="1319400"/>
                <a:gridCol w="1420560"/>
                <a:gridCol w="1316160"/>
              </a:tblGrid>
              <a:tr h="637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 Morir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to di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2514600"/>
          <a:ext cx="4343400" cy="2361960"/>
        </p:xfrm>
        <a:graphic>
          <a:graphicData uri="http://schemas.openxmlformats.org/drawingml/2006/table">
            <a:tbl>
              <a:tblPr/>
              <a:tblGrid>
                <a:gridCol w="553680"/>
                <a:gridCol w="1139400"/>
                <a:gridCol w="1420200"/>
                <a:gridCol w="1230120"/>
              </a:tblGrid>
              <a:tr h="549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 Cerrar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to clo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86000" y="4876920"/>
          <a:ext cx="5029200" cy="1904400"/>
        </p:xfrm>
        <a:graphic>
          <a:graphicData uri="http://schemas.openxmlformats.org/drawingml/2006/table">
            <a:tbl>
              <a:tblPr/>
              <a:tblGrid>
                <a:gridCol w="641520"/>
                <a:gridCol w="1425240"/>
                <a:gridCol w="1540080"/>
                <a:gridCol w="1422360"/>
              </a:tblGrid>
              <a:tr h="562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. Tender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to tend 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52280" y="228600"/>
            <a:ext cx="8839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-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erbos de “Bot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verb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en # 1 el LU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1 países hispano-hablantes y su ubicación en los m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CAPITALES de los 21 paí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cabul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t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es del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bos de “Bo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5:57:04Z</dcterms:created>
  <dc:creator>Helen Zumaeta</dc:creator>
  <dc:description/>
  <dc:language>en-US</dc:language>
  <cp:lastModifiedBy>Helen Zumaeta</cp:lastModifiedBy>
  <dcterms:modified xsi:type="dcterms:W3CDTF">2012-09-25T21:17:32Z</dcterms:modified>
  <cp:revision>5</cp:revision>
  <dc:subject/>
  <dc:title>Slide 1</dc:title>
</cp:coreProperties>
</file>